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1E84-50F4-4555-AF9A-A13442A3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6B36-4C1C-42D8-9A40-21A5BCD1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51BA-FA3D-4335-8318-301E350F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4661-93EF-440B-8F2A-7EC00897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BD15-D473-4295-9A9A-6AFC882C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35B-D06D-48FA-89F8-8ED724C5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3E71-716C-404C-BFA9-A52F4E4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18E0-4AD8-4D5E-8D2A-124E5AD0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020B-8F80-413A-A9CA-2402BA9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3E0-B361-4209-882C-A9D52A5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85DC-5831-4A1B-948B-6C76E31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EF82-BB34-4BED-A4E5-643A5B9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865C-E6A9-46CF-A4F4-99D9093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9802-FEC1-41AB-95CB-5465755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97D-E7E4-40C4-B84A-70A850AD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437A-5F28-4E17-AA5D-71D19263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D0A7-C59F-479C-80DB-A4BE79D9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27D5-CBE0-4327-8F3D-1B1C0781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7D4A-A080-4648-89C1-95CF16A3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8E04-45FB-4FD4-A9C5-1E418E6C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FD4D-38DC-42BF-AC95-0F79CB6F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09B0-ED68-46DE-B288-A0D226F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037A-0F7D-4BC3-A6A6-4E20873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A219-F6FC-4607-B599-ECFAC1D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332-EABD-4910-B45E-2ADE7256173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7605-40CC-4D19-B3CE-3BC62641B00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28880"/>
            <a:ext cx="89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(519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сегда при Господа! 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евиз е мой всек ден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везда е светла в тъмни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уй слово все за мен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ътувам в този свя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кат' чуждестранец кл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наближавам всеки де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о-близо до Христ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о-близо, по-близ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 Бога по-близ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537120"/>
            <a:ext cx="950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Там Бащинии ми град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Ерусалим святи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я се на моя взо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прекрасните стен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ушата ми гор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ега от ревност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да стигна там и да съм аз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сегда при Господ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авсегда, навсегда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 Бога навсегд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680040"/>
            <a:ext cx="95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Ще дойдеш скоро 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ата слав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газ вземи ме, Господи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за да съм с Теб всегд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пред престола т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аз вечно ще стоя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ия и славен хр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хвала ще Ти пея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авсегда, навсегда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хвала Теб навсегда!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1-07T08:49:45Z</dcterms:modified>
  <cp:revision>74</cp:revision>
  <dc:subject/>
  <dc:title>Slide 1</dc:title>
</cp:coreProperties>
</file>